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F14-90C6-4F0A-8991-011D8095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529-4969-40D9-BBD8-C650F5A8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B12-28BC-40F3-B1D6-0C5EAFDE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F08-7535-4614-8E82-AE205663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5B8-F64E-40E7-BD02-E3B98300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84A-99CD-45F0-A246-113973B4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71C-4731-4BC2-A00D-FB035947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DB2-4E9D-4FB0-A7A8-0F80E46C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101-6FE3-4E89-A350-CA3E537A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23B-883C-4C61-8E34-EB12EA6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EDA-46F8-4D74-B6BC-500C262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DF2-8E47-402B-9DA1-E22B2942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057B-AFDF-425F-804F-1DAD95D18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5:57:53Z</dcterms:created>
  <dc:creator>Grupo Editorial</dc:creator>
  <dc:description/>
  <dc:language>en-US</dc:language>
  <cp:lastModifiedBy>Grupo Editorial</cp:lastModifiedBy>
  <dcterms:modified xsi:type="dcterms:W3CDTF">2001-11-14T16:01:35Z</dcterms:modified>
  <cp:revision>1</cp:revision>
  <dc:subject/>
  <dc:title>Sin título de diapositiva</dc:title>
</cp:coreProperties>
</file>